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99B-022E-4587-8751-8B4E2420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C72-9C6A-4093-8C45-C2EE2D60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FA00C-D9AE-4EA9-9DEE-62154512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498AF-32E9-469B-8CE9-067192F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FB416-A394-469D-BC7D-7610185B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7C74D-9F26-4F90-9C03-FA59B46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C1E57-42DF-4B6A-8E07-C5AB9A7E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9E4FE-BAEC-43B0-82A0-316BF12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72257-9978-4781-B31E-B6BF0E28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54620-6E76-44A1-9DA3-9C822B6A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6E813-C0B9-4F43-BEC3-453E0233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7FD8C-85E4-482F-AA34-D2D56D7F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453-CC73-4FF8-A2BC-7475E3B6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A11A4-9806-4A02-9580-A809B47C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E7B66-FABF-4497-9F45-C81912CE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E08FB-3A89-4B94-934B-184FAA28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7B86E-EBC4-4657-BCAF-07E5FE8A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02F34-AACF-4382-AD66-89C33129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CB3D2-9CEE-42B7-A741-E7DD4C2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5066A-372A-486A-92A4-3C745C3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7912C-95BF-4114-8F49-439531EC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C5483-7323-49C5-9485-82CE5203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C7363-9BD4-405A-8531-9A1C5826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736-1690-4960-A23A-B97AB75E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35EF1-5395-421C-8A47-63BE60BB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40F66-A678-4190-8685-E9CC3208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34490-EEA7-4186-8389-B484A293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878CF-19F4-4E3B-89CF-E0D766A4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66E6F-6C19-400E-B200-0EBBD8A2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4828C-7E11-48D2-8F0C-5B64D4DC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1FA78-4780-4C70-960F-6CAB842C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693EC-A51A-40DC-9EE1-6F8BE6E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6002F-482E-40C0-82E2-A987953D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8F61C-7146-480D-AEF4-8FA5059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DB98-D3C3-4720-9EE1-5EA61CC4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528DF-E872-474A-8CB3-9D51C459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BA2E4-2A0E-4D07-963B-A4777931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338D7-1B88-45F8-B8F8-B1EBF40B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853CF-9450-4FBF-8712-957DE674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6E1C7-2E07-494C-B3F8-027A818B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5E777-FFC6-4906-AF95-6A495142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C363B-9ACF-4375-8AE7-91B2F82B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67753-C5AE-4740-8F0D-05833B4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91960-3D5F-48A7-8FDB-E91B7468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9F73C-0F7E-42E5-8C80-F46D85E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3F77-0087-40AC-89F4-4D77CCBC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C2597-7324-45F3-A864-D83032F2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89B8D-FAAC-46B2-9350-EE9C785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09E8F-B140-4A38-B968-D3136F27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94F64-F994-40C1-9B4E-0B3D93AE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4E79F-93BE-42CB-B1A5-3F2FB530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A3A7B-9C0D-4E22-A172-FCD65895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C60EE-DDF9-4E67-924F-C46DC7A8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63D1D-A9A0-4230-A1A2-BE4C654C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C6F67-D51D-455C-BFA5-E65EFB93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E1F78-CDD3-4B87-95E8-C39D6EB1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8A91-FEE7-4D5B-8B25-B5EF8544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90A0C-4FAD-4660-B3DA-B75D532C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94A1E-CE9B-481F-9933-72A1E93C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037E2-EDEC-4ACE-BBD3-4CFF506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A13BD-CFA0-4F14-A23A-1D98132B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6D571-E87E-49B5-9BF2-4E295053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D91A4-B1E4-4EE9-9A7B-BBD6514B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82A11-FC8B-46FB-9734-B5E64806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21D1B-A089-4D1E-B05D-EE339796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AD383-8338-4A50-AC6A-FEA82C0E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3D789-2466-431C-9618-4AED93DF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A1D4-8CBB-4679-8C1B-183EA789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80B87-155E-4260-85AA-95303DA4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CAB58-99E5-47B0-9F40-1170B3A2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ED80F-2744-41ED-B8D3-D7A258CF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9EB0B-837D-4104-A068-1F5D74F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5A045-D69C-47E3-AE2E-D8D2D05C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628E7-305E-4721-9675-CD1401F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D510A-44AB-44F8-8C33-D405BFED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348BD-23B4-4A18-8004-F0ABA923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E9DC6-BAD0-41CE-AF25-E64A8106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4F962-31C4-4900-A2A5-DF6D853A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76C4-9344-4B28-BCE7-0141BE56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2E461-1E29-4350-98C8-DC7188F1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6D755-39AE-44CD-8C44-68DAD667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FE7BD-1DC6-443E-9D43-E9417055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BECB1-80E7-4B04-9970-C253FE14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93215-172F-452C-A03C-F3231761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772F8-9BCF-4A34-B322-A4814C64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F25C8-AAB7-4886-9084-9F377D8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41C4A-14CD-45A9-9A31-9A930331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A74BD-30C4-473E-ACE7-5ECF3680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C8AA1-3378-4BD9-83BF-92ED33D4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8A31-D48B-44AF-B99F-BC094E10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BD579-D97F-4EDD-A81F-87FC502D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AA3FF-477B-4EBC-98D8-F696A25B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E90D1-2E59-4DA5-BE48-10CD6892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1E3510-9370-4B31-8E13-5A2A8E6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88646-E138-4921-88B6-65A8E39A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36A4B-404F-43A2-B89E-9D597C82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71650-4D65-44E9-8045-E02C35B1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C2805-F496-4E55-A166-F36CC46A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924D8-6EFE-461E-9BF5-67C5A94A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C4D79-8C90-423D-BE28-9104C410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A2B4-646C-49B5-BB43-7013C6FD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3281C-1306-4AAB-9479-976A5057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32E44-6AF1-49F5-A1AD-3125E661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E8D30-655A-45CC-9279-7B3A3132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A5800-9185-42D0-97BF-B6ECF346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0E1C7-82AD-4E6B-8443-9CDDDE1D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985A7-A806-4077-8C5E-0773A81B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25CD8-245B-4FFF-92BC-493ACC8B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0AD84-6554-47D3-BBB4-2AC8DE3D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F3B7C-2534-4B5D-8D9B-8D171431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C6F72-52D3-4016-BCA5-74C3763F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0B4-13DA-434A-AC80-DE411D2B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5F27-B869-48D1-814F-AFE25B80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78D0D-2F3F-409E-A623-DC9E1A1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11CB4-6234-4E46-B4FC-3A3A38A6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16FCA-8EA7-447E-A242-47F80A1C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8CB18-83E1-47C7-B1FC-73408106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2C2B2-429D-489D-B253-8A4D6641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E032F-D147-4E70-9AC1-AD6CCD65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088A6-D8B3-4326-A1FD-F5E3AB3B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2BBBD-08E3-4108-A75D-8F4E0220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03099-C6A7-4847-9B5E-F2214D9D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8CE36-8480-47F3-BEE1-9CCF3EC8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76F3-9967-4ED5-A102-3895E88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C498B-BCB3-4E09-8A45-596DCAC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9FF15-A8B5-430F-AAE5-73FEAC15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B889B0-2063-4B8C-B55B-A7DD2EAB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47C3F-F6C9-4535-B147-3397736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47FCE-AFA9-48C8-B9CE-85791604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FA6E9-F074-463D-BE9F-355F1C15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7083C-9377-406D-9D84-E4E2938D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CF3746-AB71-4E5D-893E-D5C583EF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781B6A-E873-4EE6-A295-470D9C52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C0E73-8F88-43CB-9081-D655EC10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EAC8-E065-4990-BF58-F6E45AA5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22D21-60D6-4E15-B1C5-92548EAD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CAD91-93B2-411E-9D27-07FC863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E188B-880D-4219-A5AB-E4331CB4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96768-510D-4EB1-8C5A-B1505CB6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61D8B-0895-4B7F-8DEE-4D85A3F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A94D2-594E-4AFC-A02A-4D7DA1D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82E8A-4E73-4792-8AB4-CC396ED5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08CD4-B04A-4489-A2A5-D308B357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50A23-0D65-49A4-A0E7-7CE30C9F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1880A2-C406-4CFF-B24D-60FD83E3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B983-61A7-4570-A6B2-7672D2ED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87BDD-DFC1-463D-98BC-4B504907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BFA1F-6D66-43F9-A445-CEB4C0C3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98383-1AD7-4C2E-94EE-E66E3403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CD0BC7-0CA0-4D82-B5EF-D0543F7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F7008-57BC-4BCF-BB1C-62E80BE0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50F4F9-8481-492E-96A7-2A545B48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67772-4D30-44E4-B46E-270A3681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ED96C-76DA-4D09-90EE-7F24CD4F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FC53F-E9DE-4F61-B78E-C6B6B998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97A960-D6B2-42DE-9287-C09F395B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4DBA-9152-4022-BA75-6464F08D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0096DE-6A97-4B46-9BFC-933FE576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77A12-B19E-44FE-BD78-B13DD917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105088-2BE4-4C67-BA34-1638AA4D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B72B2-B0C2-41F8-85D0-8B1FF148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225D39-151D-4897-AB4F-5EE647DD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8A774E-A70E-42FB-B00E-69621C2A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D0E85E-52E0-4EFC-8B71-83F644C9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42054-B435-4481-9995-73054CCD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18AC79-5013-4216-BCEA-BE810E53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FDAB7-461A-47C4-93DB-7CCE313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ED44-6B6A-43B5-93E0-699623A2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14B8B0-EADB-4081-8115-293EF903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4B2E8-0B35-4E3B-9EA9-1E25EA79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2249D2-D170-4B6F-B90E-27232F41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243A-D95C-4126-A143-590FFFBF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2A1F-FABC-4C15-90EC-F4FD669E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6778-0531-4105-9316-EEAFA2FB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D97F-9FF1-4FEE-9359-20411E4A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9AB-2C99-41CE-BE2B-551D9679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3DA4-8500-42DA-BBC9-92D39055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9C36-86B6-429D-B47E-83FBB66A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0A92-2A56-4C19-8A65-5752E2B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DAFF-F59E-458F-B6D8-AD163EF8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85B5-1AE9-4619-8053-2BE911D2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5E737-5CA9-4B3C-9311-614AD712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5EF9-830B-47D7-A4F3-82FADEE1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CFE07-38DD-43CC-BA98-8B0EC615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FF22-8FED-4BC4-9946-C6FD2011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9288-E931-412E-9329-9B658020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CE7-F74B-41B5-8A77-8DD56245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9428-5BB3-471F-83F6-D1A85FA5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AAB9-FE02-4905-8465-58524598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5F20-5588-4018-A89F-BA4D612F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F195D-FE8A-4868-80F6-81F48B0F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B38C-A65B-46C5-B542-E41FFF23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00068-2807-4209-8AF9-40FA9B7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D78B-9CBD-4283-8FF7-7F83963B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2B39-2678-465A-B813-307BDE29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CF5B-E7E4-47DF-8475-9258934F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9808-74A2-435C-BC15-1D659A81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EA5-AEB2-441C-AB81-6DCA2CC7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6C3C-FA92-466F-90D4-F0D82084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B63B0-BB92-45A8-A83C-CB340EFB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1E45-80EC-4846-AA38-D636C25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CFE40-95EB-4C71-97F9-9A25A643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99DA-AD75-467E-9B2D-B2F27D8C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EFB5-9132-4424-80FE-6AA49FA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A1442-0E90-4B19-873E-B1E4C6A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A642-7C1D-4C64-A234-02D87732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FA750-F3EE-4C86-8E75-48C62F25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D5F4F-5B88-489A-8F7F-43BBE57D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29C-BDD8-494B-A60D-72D81577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C999-5940-46BF-9492-3E8F037C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3429-42DF-4518-B79E-ACAFB2B3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84292-C2E4-4682-A734-37FBB95F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08977-0E14-48A1-A764-A203E092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6C29-8779-4954-BB9F-FADB049F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1167D-5B38-442A-A352-266D3F21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4AC8-3792-40CE-A0FC-8AE684BF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7610A-676C-4BBF-827E-C18F56FE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68FF7-E2E6-4E03-8C86-FA581E8C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A109-9CE7-4F57-8C5A-A8A6394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E95-70EF-47CB-B962-AB1CB358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4A331-51AA-4593-BBE4-653F6884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CE10B-33DB-4E0E-9F4E-CFB5EC64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220C-1647-490A-86EE-780FC511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BF29-A6F8-4CC9-B0DC-BB813592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1325-9AEA-4747-B646-112FEDA9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92E00-9FF9-48F0-B786-7BCE7115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B9A18-4B84-4C7A-A33D-477381C4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9A254-F296-4A8A-A6B0-18FA9B9B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FD1B2-BC91-4FCF-A5CE-F8C65B0B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96B5C-D564-42B9-A782-931CB4B5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661-E980-4B9A-95DC-F4C28C5F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FBA6D-0DAB-4207-8BEC-E404CF07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1660E-8B96-4899-B4B5-5BB08269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07F1-6E49-4B41-ADDD-7CEBDB6A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3B61C-F0C1-431A-86AA-FA371260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A0ABB-216B-4950-80FE-424B7313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C00A-C0A9-4C33-A452-48D5C8E0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4C2D3-4A0F-451D-AFBD-0C491822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BEF8D-8E8E-4FD2-A23C-35A25E5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47D32-B847-438E-A2B4-3F3DC46A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C45B-92BB-41B9-B764-CD6D1C20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8CF-BE3D-4D49-906B-6AB119EC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57E67-EF5D-4640-A2E8-3D3F8F70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794F4-8C06-4487-8131-4D60BAE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B7381-DD95-4D3B-9C06-DB474A73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C57EA-34E4-4F32-93D0-D9C0920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AE416-80AF-4C30-8301-EE2C6862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F7F7C-AEFC-40A6-B71E-7F591910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873E7-FF36-4988-9ECA-9597A38C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DB3F2-A5E4-4F82-88DF-644EB0D0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BD78A-3FA2-44BC-B393-94FDE0C3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507E8-5598-451A-9972-0ED79FD1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F38-BB88-4AD1-B759-2DF50120F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C65-4488-4C93-B61C-E9A173F055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8E97-A61E-4704-8E9B-24E147CCD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CFB4-7AC0-4737-96FC-5126D158A1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5C6F-89F9-4F0C-8F5C-67561F2576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3DB5-FD24-4AC7-9259-8B31A82392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5EA4-6876-4288-A889-C9E59F72C8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F027-1335-49B0-9677-4DC999B768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9DF4-DF74-4275-A41D-F11A68DCF2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45B5-1872-497F-BB31-BAF3784F2F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07C4-8C0F-46CF-91AD-4FFFD9109C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389B-A968-4F68-91FC-64D2E90FFC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A3DF-A61C-4777-B819-07ECA68722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8389-AAAF-44B3-8065-C3925DFAF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632D-EB73-48CC-A716-995C57DCB4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5C51-3604-4DFE-9123-56E6A6F6A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F1BB-21DC-455F-8DF7-CBE97AA3F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2BBF-159E-4BE4-8FED-78E6DCA344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4351-0301-41A7-A89D-4A8D5BCE7D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0FA6-8FA9-4C81-B66A-BF3C4B359D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E9A-35CC-4B05-A8F3-DAF2DF1573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3041-2868-4018-BABD-EA4A73E63F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1B28-4E27-424A-881F-8C3E208BB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C204-8EE5-43E6-BCD2-DD7BC6B8BA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BFDC-336C-428C-A06E-BB6A531772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F7BA-7943-403D-A97B-32F6C9F11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1B4A-C2CA-4BD4-ADC1-078B93560E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CD0-FAFE-4AB5-8228-D04E5EDC9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8AFF-4E1C-47FA-B5BA-9AAFDA909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4446-B07F-4948-A7BC-79289A857D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0203-E598-49C8-9958-46F08B62C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CF8E-64E1-4F9B-BE35-7CAD63E73C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2393-D493-4926-9FDC-D89F0C633E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2C2E-77CA-43DA-8441-858692A53C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FA97-A197-46A6-8CB6-4963DF9CA3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030F-C0D5-4339-AC29-F47FF7701C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679F-DAFA-4527-9301-08E55B95BF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542D-7864-4DB2-9B6B-20652D3041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2C0A-6CCE-4982-9593-3B8962CF2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57DD-1BC4-4ABB-9951-270264C29D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81080" y="3129120"/>
            <a:ext cx="878184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33200" y="2576520"/>
            <a:ext cx="8877600" cy="1704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397240" y="3313080"/>
            <a:ext cx="361800" cy="322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780000" y="3313080"/>
            <a:ext cx="361800" cy="322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219640" y="3327480"/>
            <a:ext cx="362160" cy="322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630840" y="3327480"/>
            <a:ext cx="362160" cy="322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8028000" y="3327480"/>
            <a:ext cx="36180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30320" y="793800"/>
            <a:ext cx="8885160" cy="5751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1158840" y="5229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19240" y="843120"/>
            <a:ext cx="8705520" cy="5171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116000" y="400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187280" y="5157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7172" descr=""/>
          <p:cNvPicPr/>
          <p:nvPr/>
        </p:nvPicPr>
        <p:blipFill>
          <a:blip r:embed="rId1"/>
          <a:stretch/>
        </p:blipFill>
        <p:spPr>
          <a:xfrm>
            <a:off x="247680" y="1243080"/>
            <a:ext cx="8648640" cy="4371840"/>
          </a:xfrm>
          <a:prstGeom prst="rect">
            <a:avLst/>
          </a:prstGeom>
          <a:ln w="0">
            <a:noFill/>
          </a:ln>
        </p:spPr>
      </p:pic>
      <p:sp>
        <p:nvSpPr>
          <p:cNvPr id="1052" name="直接连接符 7173"/>
          <p:cNvSpPr/>
          <p:nvPr/>
        </p:nvSpPr>
        <p:spPr>
          <a:xfrm>
            <a:off x="6372360" y="2205000"/>
            <a:ext cx="576000" cy="1008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7174"/>
          <p:cNvSpPr/>
          <p:nvPr/>
        </p:nvSpPr>
        <p:spPr>
          <a:xfrm>
            <a:off x="2916360" y="2421000"/>
            <a:ext cx="718920" cy="503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7175"/>
          <p:cNvSpPr/>
          <p:nvPr/>
        </p:nvSpPr>
        <p:spPr>
          <a:xfrm>
            <a:off x="5940360" y="3645000"/>
            <a:ext cx="1008000" cy="863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直接连接符 7178"/>
          <p:cNvSpPr/>
          <p:nvPr/>
        </p:nvSpPr>
        <p:spPr>
          <a:xfrm flipV="1">
            <a:off x="2771640" y="4436640"/>
            <a:ext cx="863640" cy="360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接连接符 7179"/>
          <p:cNvSpPr/>
          <p:nvPr/>
        </p:nvSpPr>
        <p:spPr>
          <a:xfrm flipV="1">
            <a:off x="6213600" y="1988640"/>
            <a:ext cx="806400" cy="3124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09:32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